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A3EC-1A53-4557-92AB-A90B4A9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EC71-CFC2-45F5-9C85-C52D2B14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71CA-E92C-4D22-8C4D-102194BF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DA0E-7881-47AB-812F-5E5895F5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5FFF-4A32-4530-A47E-6A11B525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31D0-7807-4423-816E-75AD89AC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23F-8532-4007-B813-BE56FBD3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8A0E-3425-4ED1-BF02-C227E933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EDE0-34A9-48BF-86B9-4575B909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19FE-3C24-4405-85F3-200300F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1FF-9012-4009-9E25-DD14B0F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03C5-86EA-4955-A41F-C0A013B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123-5B58-4C9C-8DF0-35CC1ED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3046-5889-44B2-BFFC-11FFFF3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4CA-C959-434C-86C5-8573358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C298-34B4-4203-9F2E-A6EA5684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6D80-1320-4969-98B0-74597DAB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2579-9905-429C-B31D-93A4A28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6C19-669C-414E-B55F-E1974863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7966-3706-48B5-BA36-625C9168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E338-1C90-418A-BCB3-47F9FDD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5F62-73DE-4A04-8DD3-1503C02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A463-BF11-4F0C-8127-50C6EFC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9EEF-D557-4E01-95C3-450CA89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7820-4335-47D4-89BA-313BF613C53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72A-7380-4C75-A19B-E18A73E5873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3089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радост, мир, прощени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търсим във све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вират в изобил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 Господа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692640"/>
            <a:ext cx="9325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и радост, този ми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пир и светост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отърси и сам вку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радост, този мир във Госпо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6736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яко престъпле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всякога готов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пълно опроще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илост, и люб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692640"/>
            <a:ext cx="9325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и радост, този ми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пир и светост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отърси и сам вку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радост, този мир във Госпо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092240"/>
            <a:ext cx="932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мага Той с небесна мощ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бури и въл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се борим в тъмна нощ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ага да побед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692640"/>
            <a:ext cx="9325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и радост, този ми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пир и светост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отърси и сам вку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радост, този мир във Госпо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19T15:01:51Z</dcterms:modified>
  <cp:revision>20</cp:revision>
  <dc:subject/>
  <dc:title>Slide 1</dc:title>
</cp:coreProperties>
</file>